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D84E-DA90-4E43-9FD6-C3FEDB501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BEE8-BAC0-4DC1-B47C-14D00C097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16C3-292A-40DC-A302-07566438D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2853-9CB3-4BBC-BDD0-91FFD8981E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49CD-73D8-4291-A9E9-A7A51F263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BE0C0-03C4-4CDE-B631-BF0F5A71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1CF4-312E-4B31-8B7D-5BAD1CB4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03C8-C6F1-4661-9562-7B2182E7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DD12-2DAE-4B8A-B3E8-E48B18D19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4039C-080D-4E93-96E7-A5E588B6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EE29F-8EB7-463F-BFBE-5A05CC92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7332-075B-49B0-94D2-5BD9421E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5C33-0852-4A86-9176-76209CB3F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Writing for medical journal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10 point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9. Reviewers are often wro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2514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on’t be intimid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sider appea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0. There is no such thing as a rejected manuscrip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38080" y="4648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28600" y="396252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t’s just another unsubmitted manu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1. Know your topic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eep up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rame your research in a way that contributes to current deb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2. Know the journa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now what journals are out t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right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everything is a Lancet artic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plain to editors why this jou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arget the journal s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mary research, viewpoint, commentary, letter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llow author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3. Peer revi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roves critical thin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ilds cred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4. All first drafts are rubbis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723888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st your wor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ept critic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ith people you trust: writing is ite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5. Avoid mistrust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consist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6. Unsubmitted manuscripts are annoying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0481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he draft out of your in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Harass co-authors to send you back the draf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t to jour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7. Make editors’ lives easi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2133720"/>
            <a:ext cx="6400800" cy="35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ncet editors read c.60 manuscripts a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ke their life eas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cover l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8. Take reviewers seriousl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swer every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gree as much as you c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sagree polit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9T08:51:57Z</dcterms:created>
  <dc:creator>Nathan</dc:creator>
  <dc:description/>
  <dc:language>en-US</dc:language>
  <cp:lastModifiedBy>TOR</cp:lastModifiedBy>
  <dcterms:modified xsi:type="dcterms:W3CDTF">2012-10-02T12:47:41Z</dcterms:modified>
  <cp:revision>13</cp:revision>
  <dc:subject/>
  <dc:title>When to start  A human rights analysis</dc:title>
</cp:coreProperties>
</file>